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9BB-39C8-4936-81CE-9C116DDE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A4B-AEC4-4864-9F11-03B63CCF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A45-146D-42F4-A8DA-33530E58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BF0-3939-4860-880E-12B43A7A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7D7C-BA5E-4245-B403-20ACAA1C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0C75-0BAC-4E2D-B70D-23BA8A5A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EB99-2698-4ADB-B226-A876251D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EA82-C35E-4575-A159-A3FE3358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8E4E-1653-4101-BF50-33274F35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7114-B6E1-432B-8983-685F032C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A076-0D99-4A77-BDB1-1EBFDB12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379-BCB8-4C58-9010-C3CE3D18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BADD-64D2-4BA2-9E5B-BDF6EDBA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0A3D-5CEF-42C8-96AF-5D7D2C67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F175-A684-46E2-8CFE-3C4747C5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F57B-D0D0-4D48-81C6-1847BF50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DC36-34AE-4D11-9C1F-D61C5FD9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9B1-D632-4349-8255-B1AD328C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1C8-FB49-41C6-AA94-2752B5D2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813-6A11-4406-836C-104A3CD7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B1A-D04B-4CFB-9970-BFE54817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EFE-1FCC-4097-BD1C-E6746F3A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1D4-7717-42F2-8E85-17584DCB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A56-A37B-455F-9EA9-F05DAC28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AFA3-A335-4247-A61E-75895626CE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3D49-FC2F-4B7F-9AEE-1CBF96758B4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 H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deo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ng sources: 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with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ips for Quickfin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titles, pictur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tal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google Bo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Useful Sit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s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nc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n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thatmattersfest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r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imes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channe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.googl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w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nesty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3 Step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duct research, follow the advice (and links) outlined in the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ee important step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types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ly read and understand those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- taking effec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What do I do when I have a source?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for 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read for importan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, underline, scribble in the margins, or use sticky notes to pick out what you ne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910120"/>
            <a:ext cx="88390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otation:  Making notes on you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-228600"/>
            <a:ext cx="5994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Useful Sit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s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leranc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n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thatmattersfest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r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imes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channe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ks.google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Journ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 Se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ome of the topics you are interested in researching?  What do you already know?  What do you still need to find out?  Why did you choose this top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opy H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s due next Mon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chool till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Research Paper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aluating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imary sourc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imary source is an original document or account that is not about another document or account but stands on its ow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 Novel, play, diary, letter, interviews, research data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econdary sourc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ources are ones that interpret primary sources or are otherwise a step remov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A journal article or book about a poem, novel, or 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nternet Sourc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I do with an internet sou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source of the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author name and date of pub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nternet Sourc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I know if my source is reli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reliable: discussion forums, blogs, or chatrooms for your 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able:  newspapers, encyclopedias, almanacs, and established publishing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a title and auth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3:16:15Z</dcterms:created>
  <dc:creator>Tucker</dc:creator>
  <dc:description/>
  <dc:language>en-US</dc:language>
  <cp:lastModifiedBy>Tucker</cp:lastModifiedBy>
  <dcterms:modified xsi:type="dcterms:W3CDTF">2010-05-11T22:22:51Z</dcterms:modified>
  <cp:revision>4</cp:revision>
  <dc:subject/>
  <dc:title>Slide 1</dc:title>
</cp:coreProperties>
</file>